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21F-7BFE-4243-80BD-2289E67A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F1F-FB16-4E75-89C1-2392E11D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0B8-96A7-4CE7-9929-C4703195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00F-9DF6-4757-A9D6-3F920773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E19-3CB5-4797-9593-C11D5501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848-D76C-4E58-A34E-D513BFBD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FEA-8BBF-4BE2-B0EC-D6EB8D44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F69-DDCC-4F17-B7C7-BB4148EA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427-5250-41C1-8B88-E2058A53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A83-5817-4D99-B4DF-C2332FC4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4FD-84D4-4D31-BEE9-60A4776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F06-2852-4398-B52F-C99D1A36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5EEB-D20F-4D31-87B7-3AA98C06BC2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apture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944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16000" y="192240"/>
            <a:ext cx="7834320" cy="129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6"/>
          <p:cNvGraphicFramePr/>
          <p:nvPr/>
        </p:nvGraphicFramePr>
        <p:xfrm>
          <a:off x="539640" y="247680"/>
          <a:ext cx="106992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7680"/>
                    <a:ext cx="10699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2340000" y="961920"/>
            <a:ext cx="5413320" cy="1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0800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cture </a:t>
            </a:r>
            <a:r>
              <a:rPr b="1" lang="bg-BG" sz="1800" spc="-1" strike="noStrike">
                <a:solidFill>
                  <a:srgbClr val="000000"/>
                </a:solidFill>
                <a:latin typeface="Arial Black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bg-BG" sz="18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6"/>
          <a:stretch/>
        </p:blipFill>
        <p:spPr>
          <a:xfrm>
            <a:off x="5424480" y="6319800"/>
            <a:ext cx="37195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20:06:21Z</dcterms:created>
  <dc:creator>Tzanev-Home</dc:creator>
  <dc:description/>
  <dc:language>en-US</dc:language>
  <cp:lastModifiedBy>Tzanev-Home</cp:lastModifiedBy>
  <dcterms:modified xsi:type="dcterms:W3CDTF">2015-11-08T20:16:20Z</dcterms:modified>
  <cp:revision>3</cp:revision>
  <dc:subject/>
  <dc:title>Slide 1</dc:title>
</cp:coreProperties>
</file>